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530D-3C9C-475C-A74A-623CE94949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446E-CD45-4A05-94C9-84F4D0E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86E0-A66B-474B-B743-8B4A85E0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F129-4F0E-493D-85EE-D82D30B49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B40DF-652C-4226-95E7-A597E279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4E0E6-40AA-4FE9-856C-FC92AAB6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5CE0F-C1F6-45C2-A0D0-D23FCDFB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21F6D-A282-452B-A20B-5F166DCF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383CC-EBFC-4856-A4E0-90F1269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495AB-8BD7-4D6A-9B43-F1B212BA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35FA2-50B3-40BB-9B38-7355D15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2C1A-7E39-4C44-9585-485ABCA5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14B27-1454-4A64-8755-A17D978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88F2F-B275-46CC-BFB2-2AD73ED5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F139E-0C2A-44C6-AE3E-E65CA4F8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02C17-4C1B-4B25-AADB-7525AF8E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FF0A0-0CE6-48FA-A64B-70F6BAC6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421B-73EA-457E-8FBF-CF0D3E8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43A1-6D81-4814-9664-91DE167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6C62-80D0-4B98-8E78-C8630D4C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7C49-28FA-4A48-963D-D769A7CB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7421-DEE3-41F2-902C-648840D3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E8ED-86B2-44A1-A4EF-4CA96C2D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5C58-9454-4D5F-B815-A55ED460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60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693800" indent="-38736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4" marL="2093760" indent="-398160">
              <a:spcBef>
                <a:spcPts val="601"/>
              </a:spcBef>
              <a:buClr>
                <a:srgbClr val="bc8b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6848-D6EC-4CC2-84C0-E96C108B35B7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6201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248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747E-EEA5-49C9-AA40-554A5C1D2C02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62012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909720" algn="ctr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3" marL="1306440" algn="ctr"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4" marL="1695600" algn="ctr">
              <a:spcBef>
                <a:spcPts val="561"/>
              </a:spcBef>
              <a:buClr>
                <a:srgbClr val="bc8b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Architecture for Tiered Sensor Networ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O. Gnawali, B. Greenstein, K-Y. Jang, A. Joki, J. Paek, M. Viera, D. Estrin, R. Govindan, E. Kohler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USC, UCL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SenSys 2006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hree Task Operation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 new I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a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no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active containers associated with a task are destroye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2993-1598-48B0-A489-D3546A7D3B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ample Tas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ink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ntToLedsAnd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ing and MeasureHea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seTo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268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3048120"/>
            <a:ext cx="598176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82584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802944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33520" y="5562720"/>
            <a:ext cx="741996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4CE4-5737-493F-B077-BCE5ED8DA8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Data Fusion Exampl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ke 10 samples, timestamp i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assify as interesting if 3 or more samples &gt; 45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lculates the deviation from the running mea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splays the sample on the LED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ds the statistic, timestamp, and sample if interes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68007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57F9-D5F3-44A8-BB31-962C39C121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Network Subsystem Requirem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ust support different applications on tiered networ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outing must be robust and scalab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aster-to-mo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o-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Small memory footpri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s must be reliably disseminated from any master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sults must be delivered with end-to-end reli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1532-A62A-4363-9BC1-1D4132C656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ddressing and Routin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very mote and master has a globally unique 16-bit addr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tes use TinyOS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sters use last 16-bits of IP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ster-to-master: IP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te-to-master: tiered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First route to nearest master, then to destination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Use standard WSN tree-routing protocol like MintRou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812B-BEDA-4458-9BB8-65F536EDFF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iered Task Dissemin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liably floods tasks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artial network re-tasking achieved using a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predicate taskle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lemented in a generic packet flooding protocol called TR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y floods packets to all nodes (both motes and masters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ed on beacon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EA0A-AFE8-4DCE-8081-6F037FA4E6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eliable Transpor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ansmits responses from motes to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e transactiona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am transport for high data rate appl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ll use hop-by-hop retransmission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reliable protocols use a simplified version of TC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FAC8-9D74-4B5E-8654-CFD5D04CCC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Summary of Novel Networking Mech.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63040" cy="40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869D-C175-4CD9-B070-BC59651DCA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valution: Concurrenc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ow many tasks can a tmote support at once?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04880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753000"/>
            <a:ext cx="6534360" cy="142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18960" y="2217600"/>
            <a:ext cx="874872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2A79-CE38-44BE-B1AA-27165D9099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57340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ecution 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4191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st CPU-intensive tasklet,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GatherStatistics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can process 1200 samples in 14.8m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PU-bound max sampling rate is 81,000 samples per secon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0" y="281952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DA24-E473-4268-A3C9-A432D59CFC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Two-Tier Archite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4723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tes and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ulti-node data fusion done on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sters program motes using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28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EB49-743F-477D-92FB-933102E59A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pplication: PE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G = Pursuit-Evasion Gam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ne or more pursuers collaborate to corral one or more evad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se WSN to help pursuers detect non-line-of-sight evad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ative implementation uses a lead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ple nodes sense the evader, leader fuses the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ss tests Tenet (no mote-level fus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implementation adjusts the detection threshol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1FD6-4817-40A6-A5E8-2E276CEDCD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xperimental Setup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56 tmotes, 6 stargat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mplif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vader detected using RSSI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Radio 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ansmit power limited to achieve multihop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9-hop diamet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e evader, one stationary pursuer on central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D570-3F26-4525-A46A-89E3003E0A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124080" cy="122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valu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higher accuracy but higher laten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lower message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3257280" cy="248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312444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ACBD-A1B0-4B05-B02A-C0A51D80F0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Vibration Monitoring Case Stud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used to implement Wisde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3909960" cy="29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4419720" cy="48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3200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ctOnSet reduces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et simplifies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7ED0-0F02-4C86-B816-817D4120DE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Manageabilit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following task can be used to capture the routing trees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s can be used to evaluate the task dissemination latency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2629080"/>
            <a:ext cx="6305400" cy="26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76520" y="3828960"/>
            <a:ext cx="53625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68295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DB67-109D-4F5E-84C0-4687B5CAA5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obustnes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ailure of a master forces routing algorithm to adjus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86400" cy="334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1243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E34F-D083-4250-A8B5-5E06791994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Future Wor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ar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ctu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ier storag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unded-latency communic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mpact of disconnection due to mo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-user control and resource manageme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E720-C13C-4444-B542-B3DD17FC3A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implifies programming while not significantly increasing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0F88-C438-4FB1-A18E-3BD8EF937E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Applic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Pursuit-Eva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Pursuer mobile robots chase after evader robots with the help of a sensor network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raditional implementation employs mote-tier data aggregation to reduce redundant evader repor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C79D-200E-43CC-86EC-F669A89272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Compon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omposable taskle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eliable task dissemination protoco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Data transport mechanism (3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Inter-tier routing subsyst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2C3A-3E1C-44B3-8121-236900DADF1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xample Tas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Notify application when temperature &gt; 50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contains an arbitrary number of tasklets linked together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24544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10BC-5954-41FF-B261-2C08FB340E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Motiv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st sensor network architectures support multi-node in-network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Increased complex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duced managea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1110-0F44-49FA-A623-AF024C5891B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Desig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enet limits multi-node data fusion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an perform more sophisticated fusion algorithm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Larger contex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 better decis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1CF7-7CB7-42F9-B196-51DA031EA8D1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fficiency Cos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Opportunity cost of multi-mote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otes can still fuse locally-generated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Sensor data have high temporal but low spatial redundan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re data routed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 well-designed WSN will have a small diame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Higher conges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pplication parameters can be tuned, e.g., only high-confidence pursuers report to mast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50DD-5DB8-42E1-8B22-516847EE1F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Five Design Principle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symmetric Task Commun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 send mote tasks, mote send master reply, mote cannot initiate tasks (no inter-mote communicat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ddress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s can talk to each other, any master can talk to any mote, a mote can reply to its tasking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Each task is a subset of a mote’s generic functiona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silience to extensive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ools must offer useful insight into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6CC9-C4EF-4A3A-A774-B231D00A8E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Task and Task Librar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Focus on simplicity rather than expressive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is composed of tasklets, which are parameterized servic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Linear compos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lets maximize flexibility while remaining sim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Each task has a unique ID, a list of tasklets, and their parame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 composed at compile-time due to TinyO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10D5-22FA-41D8-A33D-FFB4BEC3D7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askle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n be composed into a wide range of 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8632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50254-3D95-477D-913C-832AF6023C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ask Data Stru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 are dynamically allocate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ctive Containers hold task dat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loned when a tasklet repea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2900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43000" y="5562720"/>
            <a:ext cx="6878520" cy="56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43400" y="182880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ttributes are 3-tu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tag, length, 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3A15-3CDB-4DB3-B0C6-4FA5CFFB3A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</a:t>
            </a: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he Mote Run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-aware queues used by services (e.g., wait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cheduler operates at tasklet-level granular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ows multiple tasks to execute concurrentl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FAC1-3D54-46D6-A81E-F08778D533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50:13Z</dcterms:created>
  <dc:creator>julien</dc:creator>
  <dc:description/>
  <dc:language>en-US</dc:language>
  <cp:lastModifiedBy>Sun Fei</cp:lastModifiedBy>
  <dcterms:modified xsi:type="dcterms:W3CDTF">2006-09-22T18:36:16Z</dcterms:modified>
  <cp:revision>645</cp:revision>
  <dc:subject/>
  <dc:title>Slide 1</dc:title>
</cp:coreProperties>
</file>